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81D6-97C9-4A3D-ADCA-1BFE1FB3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5BC-C706-440E-ABDE-F01B61F6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83A-2AA4-47EE-BB9A-78641D8D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0EE-54FD-400A-886D-9CDAA4D5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6A22-3636-45C2-A23D-0E9CD415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F46-9852-4EE4-9D4D-172A8DBA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FF5-62C0-4202-A1DC-FCD00088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CD2-EE2B-4975-9BE6-639C6400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971-E05C-4336-916E-D4AE3DC8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DCD-F0E4-45F2-A1BB-2358585F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54E-8A31-4523-B035-1957B3D0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89F-1B63-4B66-9E88-E8910211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357C-5748-43F2-B498-08CD635D4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3:00:24Z</dcterms:created>
  <dc:creator>Windows User</dc:creator>
  <dc:description/>
  <dc:language>en-US</dc:language>
  <cp:lastModifiedBy>Windows User</cp:lastModifiedBy>
  <dcterms:modified xsi:type="dcterms:W3CDTF">2011-03-27T03:01:13Z</dcterms:modified>
  <cp:revision>1</cp:revision>
  <dc:subject/>
  <dc:title>This is a test</dc:title>
</cp:coreProperties>
</file>